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9C4-EC03-4AA5-A1EA-1C181340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107-7A89-4F0D-BCC8-FE73AF80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05E-E60A-4308-A9B0-46098E59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3EE-7E85-4C18-9BA6-967B4E7A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74C1-4A57-4208-9DAF-7B11127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6E6C-230D-4BE3-B65A-0B7815FD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5FF-1302-4B68-8CB7-0DFF1C4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2C85-4C6F-4D56-BF20-F69E7D66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7BEB-40C0-408E-9474-F194C4C9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61E-C5C9-44B9-8F2D-16E7E7F0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E190-3D7F-4313-A84D-66535E2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98BD-B183-4D4E-8377-D5EA9A55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3F17-AEAC-4170-9CF4-56865526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6C9A-A84C-417B-B0A5-63D20D8F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EDF2-0C54-4267-9FAA-7EAB349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14A3-BB1A-4030-B97F-DD87ED15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7742-FFD6-4B7F-9816-9BD64453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EB6-E549-418F-9566-27C3087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69A-734F-4E38-B1F5-E3030C72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CB5-58D7-45FA-8853-379C637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6C1-DBED-46BA-A33D-189C4C66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65D-B631-4013-A83B-B248863C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C7E-3623-4E49-8991-74BB07C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CAE-DA39-41C6-A390-FC02646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5B7B-3C70-463E-B33D-D0F1020A4C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BA05-EFE7-41A4-A39D-B1C7119CD8F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usatoday.com/news/_photos/2006/12/27/polar-topper.jpg&amp;imgrefurl=http://www.usatoday.com/news/washington/2006-12-27-polar-bears_x.htm&amp;h=310&amp;w=472&amp;sz=30&amp;hl=en&amp;start=8&amp;tbnid=JInjTjEYfzGI7M:&amp;tbnh=85&amp;tbnw=129&amp;prev=/images%3Fq%3Dpolar%2Bbear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f/f5/Polar_bears_near_north_pole.jpg/800px-Polar_bears_near_north_pole.jpg&amp;imgrefurl=http://commons.wikimedia.org/wiki/Image:Polar_bears_near_north_pole.jpg&amp;h=600&amp;w=800&amp;sz=135&amp;hl=en&amp;start=63&amp;tbnid=JX4pGGFyf0cTUM:&amp;tbnh=107&amp;tbnw=143&amp;prev=/images%3Fq%3Dpolar%2Bbears%26start%3D6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aska-in-pictures.com/data/media/2/polar-bear-and-cub_2942.jpg&amp;imgrefurl=http://www.alaska-in-pictures.com/polar-bear-and-cub-2942-pictures.htm&amp;h=315&amp;w=468&amp;sz=30&amp;hl=en&amp;start=60&amp;tbnid=w5gxTGeWjWYZJM:&amp;tbnh=86&amp;tbnw=128&amp;prev=/images%3Fq%3Dpolar%2Bbears%26start%3D4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ewscientist.com/blog/shortsharpscience/uploaded_images/grolar-777201.jpg&amp;imgrefurl=http://www.newscientist.com/blog/shortsharpscience/2006/05/grizzly-end-for-polar-bear-crossbreed.html&amp;h=332&amp;w=450&amp;sz=26&amp;hl=en&amp;start=52&amp;tbnid=R1nC9g0Ci2ECzM:&amp;tbnh=94&amp;tbnw=127&amp;prev=/images%3Fq%3Dpolar%2Bbears%26start%3D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zooberance.com/virtual%2520zoo/they%2520walk/polar%2520bear/Polar%2520Bear%252042090.jpg&amp;imgrefurl=http://www.exzooberance.com/virtual%2520zoo/they%2520walk/polar%2520bear/polar%2520bear.htm&amp;h=512&amp;w=768&amp;sz=75&amp;hl=en&amp;start=89&amp;tbnid=mWyGnihjuTCPoM:&amp;tbnh=95&amp;tbnw=142&amp;prev=/images%3Fq%3Dpolar%2Bbears%26start%3D8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limateprogress.org/wp-content/uploads/2007/05/polar-bear-tongue.jpeg&amp;imgrefurl=http://climateprogress.org/2007/05/31/more-humor-george-bush-climate-activist/&amp;h=399&amp;w=410&amp;sz=24&amp;hl=en&amp;start=3&amp;tbnid=zQ2jqArMno775M:&amp;tbnh=122&amp;tbnw=125&amp;prev=/images%3Fq%3Dpolar%2Bbears%26gbv%3D2%26hl%3D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lleigh Townse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you know about Polar Bears? Listen to me and you can read about them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12408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Polar Bears are carnivores that live in the arctic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have thick fur to stay warm and a layer of blubber helps them to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eat seals to stay aliv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962520"/>
            <a:ext cx="15908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are very powerful and strong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have claws to defend themsel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could also blend in with the sno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5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have ways to communicate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growl, hiss and show their teeth and lower their heads and 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ople are Polar Bears’ main enemy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 have hunted Polar Bears for thousands of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eople came from far places to hunt Polar Bears for spo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648320"/>
            <a:ext cx="175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Bears dig dens for protection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dig dens when It’s too cold to hunt for f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3505320"/>
            <a:ext cx="1504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 hope you had fun learning about Polar Bear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286000"/>
            <a:ext cx="28051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4:53Z</dcterms:modified>
  <cp:revision>4</cp:revision>
  <dc:subject/>
  <dc:title>Animal Name</dc:title>
</cp:coreProperties>
</file>